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831388" cy="73152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080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36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20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080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3880" y="422280"/>
            <a:ext cx="84013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29800" cy="121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3204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Font typeface="Tahoma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06992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6553080"/>
            <a:ext cx="210024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" TargetMode="External"/><Relationship Id="rId3" Type="http://schemas.openxmlformats.org/officeDocument/2006/relationships/hyperlink" Target="http://www.msdn.microsoft.com/vstudio/nextgen" TargetMode="External"/><Relationship Id="rId4" Type="http://schemas.openxmlformats.org/officeDocument/2006/relationships/hyperlink" Target="http://www.msdn.microsoft.com/net" TargetMode="External"/><Relationship Id="rId5" Type="http://schemas.openxmlformats.org/officeDocument/2006/relationships/hyperlink" Target="http://www.msdn.microsoft.com/net" TargetMode="Externa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00000" y="2600280"/>
            <a:ext cx="8356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9296280" cy="1067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eal World Web Servic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638680" y="2666880"/>
            <a:ext cx="3962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Jay Schmel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artn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larity Consulting, Inc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rerequisites for presentation: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 assume you know: 1) Visual Basic .NET; 2) ADO.NET; 3) SOA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3"/>
              </a:spcBef>
              <a:spcAft>
                <a:spcPts val="31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Level: Intermedi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14600"/>
            <a:ext cx="5410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Exampl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StockQuote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tStockQuote(ByVal Symbol as String) As Dou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224"/>
              </a:spcBef>
              <a:spcAft>
                <a:spcPts val="337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est messag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200400"/>
            <a:ext cx="792504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Envelop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mlns:SOAPENV=“SOAPEnvelope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AP-ENV:encodingStyle=“SOAPEncoding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m:GetStockQuote xmlns:m=“Some-URI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ymbol&gt;MSFT&lt;/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m:GetStockQuo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Envelo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Exampl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mes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209680"/>
            <a:ext cx="807732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209680"/>
            <a:ext cx="807732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Envelope xmlns:SOAPENV=“SOAPEnvelope-URI”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AP-ENV:encodingStyle=“SOAPEncoding-UR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m:GetStockQuoteResponse xmlns:m=“Some-URI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rice&gt;75.10&lt;/pri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m:GetStockQuoteRespons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-ENV:Envelope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 Web Servi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eating th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ng a Client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pplication Overview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Sce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ime and Expense application for consulting fir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sultants enter T+E for bill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uditor check entries and produce invoi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+ Compon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s ADO Recordsets to marshal da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COM between Client and COM+ compone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urrent Architectur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3402000" y="1857240"/>
            <a:ext cx="5797440" cy="45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ndows 2000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16520" y="2362320"/>
            <a:ext cx="1834920" cy="338292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+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pon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VB 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39080" y="3262320"/>
            <a:ext cx="1726920" cy="1582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QL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5440" y="2362320"/>
            <a:ext cx="1834920" cy="338292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VB 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8" idx="1"/>
          </p:cNvCxnSpPr>
          <p:nvPr/>
        </p:nvCxnSpPr>
        <p:spPr>
          <a:xfrm>
            <a:off x="2430360" y="4053960"/>
            <a:ext cx="1586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stCxn id="129" idx="2"/>
            <a:endCxn id="128" idx="3"/>
          </p:cNvCxnSpPr>
          <p:nvPr/>
        </p:nvCxnSpPr>
        <p:spPr>
          <a:xfrm flipH="1">
            <a:off x="5850720" y="4053960"/>
            <a:ext cx="118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2730600" y="3728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66080" y="37288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roblem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COM over web isn’t ea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ltants behind a firewall can’t entry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se a firewall friendly way to enter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 new features while we’re at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 ASP.NET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are the Op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op from the ASP.NET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ces COM -&gt; .NET translation code in Web Servi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igration of COM+ will require web service cha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Managed Wrapp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 -&gt; .NET translation code in the wrapper assemb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ase migration of COM+ compon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quires additional component now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w Architectur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2827440" y="1857240"/>
            <a:ext cx="6840360" cy="45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ndows 2000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35800" y="3370320"/>
            <a:ext cx="1258920" cy="158256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QL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720" y="2362320"/>
            <a:ext cx="1403280" cy="1690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VB 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2" idx="3"/>
            <a:endCxn id="144" idx="1"/>
          </p:cNvCxnSpPr>
          <p:nvPr/>
        </p:nvCxnSpPr>
        <p:spPr>
          <a:xfrm>
            <a:off x="1961640" y="3207960"/>
            <a:ext cx="4574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6" idx="3"/>
          </p:cNvCxnSpPr>
          <p:nvPr/>
        </p:nvCxnSpPr>
        <p:spPr>
          <a:xfrm flipH="1">
            <a:off x="7830720" y="4161960"/>
            <a:ext cx="505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326040" y="28656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9760" y="382572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43440" y="4162320"/>
            <a:ext cx="1187640" cy="176364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NE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nag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rap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VB .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35800" y="2397240"/>
            <a:ext cx="395280" cy="16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8000" y="4162320"/>
            <a:ext cx="1189080" cy="176364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SP.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e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VB .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8720" y="4197240"/>
            <a:ext cx="1403280" cy="169092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ent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?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3"/>
            <a:endCxn id="150" idx="1"/>
          </p:cNvCxnSpPr>
          <p:nvPr/>
        </p:nvCxnSpPr>
        <p:spPr>
          <a:xfrm>
            <a:off x="1962000" y="5043600"/>
            <a:ext cx="11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149200" y="4732200"/>
            <a:ext cx="7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OAP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4266720" y="5044680"/>
            <a:ext cx="57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535800" y="4162320"/>
            <a:ext cx="576360" cy="176364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9" idx="3"/>
            <a:endCxn id="155" idx="1"/>
          </p:cNvCxnSpPr>
          <p:nvPr/>
        </p:nvCxnSpPr>
        <p:spPr>
          <a:xfrm>
            <a:off x="6031080" y="5044680"/>
            <a:ext cx="505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537240" y="2362320"/>
            <a:ext cx="1293840" cy="3600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+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pon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VB 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65560" y="475308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43680" y="4753080"/>
            <a:ext cx="6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+ component uses ADO Records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uring th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we do with existing client applica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nteracting with ADO Recordset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+ Inter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gain future migration concer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O Recordset -&gt; ADO.NET Data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leDbAdapter.Fill metho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O.NET Dataset -&gt; ADO Record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XSLT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grammatically populate (i.e. loop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ut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hicago based technology consulting fir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icrosoft Gold Certified Partner for E-Commerce Solu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cused on building enterprise systems with Microsoft tool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gagement Direct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ive project leader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 us out at 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www.claritycon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urity Considera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 Authorization/Authent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vent unauthorized user from access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trol level of access for authenticated us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tect sensitive data over the wi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User Authentication Op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 Protocol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ic Authentication (over SSL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g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erber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ndows Authentic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sspor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ssion based authentic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ss user credentials with the metho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ata Transmission Op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 Secure Sockets Layer (SS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crypt web service requests/respons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eb Services physically split between secure/un-secu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ive encry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ect message parts (SOAP Body or SOAP Header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ect messag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build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 Web Servi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ng th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eating a Client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xisting Client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wrapper to expose th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date the VB6 application via SOAP Toolk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te the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t’s not broken don’t fix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uilding a Client Applica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ls entries from MS Outlook calend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s the web service to updat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the client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are the Op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ly web service clients have visibilit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siness logic spread aroun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herit and Extend the Business Com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ood option when can’t change the existing compon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eb service update required to expose the cha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Wra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d the new logic/metho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eeps business login togeth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ne more thing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e haven’t forced users to authentica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 Web Servi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ng th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ng a Client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ur Approach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 Authentication via Basic Authent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l users require a valid Windows logi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SL so password isn’t clear tex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transmission via SS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l traffic over SS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 Basic Authentication on the vd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y credentials from cl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on’t Forget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security during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the Namespace for th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WebService(Namespace:=“&lt;yournamespace&gt;”)&gt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oad Web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WebMethod(MessageName:=“&lt;blah&gt;”)&gt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esourc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www.claritycon.c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DN: Visual Studio .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www.msdn.microsoft.com/vstudio/nextg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DN: .NET Fra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4"/>
              </a:rPr>
              <a:t>www.msdn.microsoft.com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5"/>
              </a:rPr>
              <a:t>/n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048120"/>
            <a:ext cx="64008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1880" indent="-461880"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y Schmel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schmelz@claritycon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ww.claritycon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a Web Servic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690560" y="4618080"/>
            <a:ext cx="3897000" cy="1792080"/>
            <a:chOff x="1690560" y="4618080"/>
            <a:chExt cx="3897000" cy="17920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1690560" y="5388120"/>
              <a:ext cx="215496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3295440" y="4618080"/>
              <a:ext cx="229212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721680" y="4695840"/>
              <a:ext cx="146772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Web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870200">
              <a:off x="2819880" y="5812200"/>
              <a:ext cx="85176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HTTP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1880" y="5924520"/>
            <a:ext cx="2292120" cy="909720"/>
            <a:chOff x="461880" y="5924520"/>
            <a:chExt cx="2292120" cy="909720"/>
          </a:xfrm>
        </p:grpSpPr>
        <p:pic>
          <p:nvPicPr>
            <p:cNvPr id="55" name="" descr=""/>
            <p:cNvPicPr/>
            <p:nvPr/>
          </p:nvPicPr>
          <p:blipFill>
            <a:blip r:embed="rId4">
              <a:lum bright="-6000"/>
            </a:blip>
            <a:stretch/>
          </p:blipFill>
          <p:spPr>
            <a:xfrm>
              <a:off x="461880" y="5924520"/>
              <a:ext cx="22921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94320" y="6135840"/>
              <a:ext cx="122364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Clien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314880" y="2895480"/>
            <a:ext cx="5944680" cy="1677600"/>
            <a:chOff x="3314880" y="2895480"/>
            <a:chExt cx="5944680" cy="1677600"/>
          </a:xfrm>
        </p:grpSpPr>
        <p:pic>
          <p:nvPicPr>
            <p:cNvPr id="58" name="" descr=""/>
            <p:cNvPicPr/>
            <p:nvPr/>
          </p:nvPicPr>
          <p:blipFill>
            <a:blip r:embed="rId5">
              <a:lum bright="-24000"/>
            </a:blip>
            <a:stretch/>
          </p:blipFill>
          <p:spPr>
            <a:xfrm>
              <a:off x="6967080" y="2902680"/>
              <a:ext cx="229248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9640" y="2954520"/>
              <a:ext cx="146772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Web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5157360" y="3567240"/>
              <a:ext cx="2155320" cy="10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9773600">
              <a:off x="5657760" y="3666240"/>
              <a:ext cx="7362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ahoma"/>
                </a:rPr>
                <a:t>XML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7">
              <a:lum bright="-24000"/>
            </a:blip>
            <a:stretch/>
          </p:blipFill>
          <p:spPr>
            <a:xfrm>
              <a:off x="3314880" y="2902680"/>
              <a:ext cx="229248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66680" y="2954520"/>
              <a:ext cx="146772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Web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8"/>
            <a:stretch/>
          </p:blipFill>
          <p:spPr>
            <a:xfrm>
              <a:off x="5630760" y="3204360"/>
              <a:ext cx="1341360" cy="30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907600" y="2895480"/>
              <a:ext cx="7362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ahoma"/>
                </a:rPr>
                <a:t>XML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4540320" y="3868200"/>
              <a:ext cx="7362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ahoma"/>
                </a:rPr>
                <a:t>XML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>
              <a:off x="4234320" y="3877920"/>
              <a:ext cx="511560" cy="45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666720" y="1496880"/>
            <a:ext cx="88264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marL="366840" indent="-366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web service is: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programmable logic accessible via standard Web protoco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81720" y="4640400"/>
            <a:ext cx="3885840" cy="1919880"/>
            <a:chOff x="5481720" y="4640400"/>
            <a:chExt cx="3885840" cy="1919880"/>
          </a:xfrm>
        </p:grpSpPr>
        <p:pic>
          <p:nvPicPr>
            <p:cNvPr id="70" name="" descr=""/>
            <p:cNvPicPr/>
            <p:nvPr/>
          </p:nvPicPr>
          <p:blipFill>
            <a:blip r:embed="rId10">
              <a:lum bright="-12000"/>
            </a:blip>
            <a:stretch/>
          </p:blipFill>
          <p:spPr>
            <a:xfrm>
              <a:off x="6817320" y="4640400"/>
              <a:ext cx="2291040" cy="10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230960" y="4716720"/>
              <a:ext cx="146772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Web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1"/>
            <a:stretch/>
          </p:blipFill>
          <p:spPr>
            <a:xfrm>
              <a:off x="5481720" y="4981680"/>
              <a:ext cx="1340280" cy="3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44520" y="4681080"/>
              <a:ext cx="7362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ahoma"/>
                </a:rPr>
                <a:t>XML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16800" y="5670000"/>
              <a:ext cx="275076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Building Block Services”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tandards and Protoco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M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Object Access Protocol (SOA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.NET Web Services also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TTP G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TTP Po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makes up a Web Servic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SMX in ASP.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vokes the web service metho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6354360" y="5097600"/>
            <a:ext cx="973080" cy="1008000"/>
          </a:xfrm>
          <a:prstGeom prst="foldedCorner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SM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makes up a Web Servic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SMX in ASP.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vokes the web service metho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Description Language (WSD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fines / Describes the web service metho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6354360" y="5097600"/>
            <a:ext cx="973080" cy="1008000"/>
          </a:xfrm>
          <a:prstGeom prst="foldedCorner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SM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230360" y="5097600"/>
            <a:ext cx="973080" cy="1008000"/>
          </a:xfrm>
          <a:prstGeom prst="foldedCorner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S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1"/>
            <a:endCxn id="82" idx="3"/>
          </p:cNvCxnSpPr>
          <p:nvPr/>
        </p:nvCxnSpPr>
        <p:spPr>
          <a:xfrm>
            <a:off x="5205240" y="5601960"/>
            <a:ext cx="1152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makes up a Web Servic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SMX in ASP.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vokes the web service metho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Description Language (WSD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fines / Describes the web service metho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y Document (DIS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ublish web services on a serv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6354360" y="5097600"/>
            <a:ext cx="973080" cy="1008000"/>
          </a:xfrm>
          <a:prstGeom prst="foldedCorner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SM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4230360" y="5097600"/>
            <a:ext cx="973080" cy="1008000"/>
          </a:xfrm>
          <a:prstGeom prst="foldedCorner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S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62000" y="5097600"/>
            <a:ext cx="973440" cy="1008000"/>
          </a:xfrm>
          <a:prstGeom prst="foldedCorner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S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1"/>
            <a:endCxn id="88" idx="3"/>
          </p:cNvCxnSpPr>
          <p:nvPr/>
        </p:nvCxnSpPr>
        <p:spPr>
          <a:xfrm>
            <a:off x="2936880" y="5601960"/>
            <a:ext cx="1296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8" idx="1"/>
            <a:endCxn id="87" idx="3"/>
          </p:cNvCxnSpPr>
          <p:nvPr/>
        </p:nvCxnSpPr>
        <p:spPr>
          <a:xfrm>
            <a:off x="5205240" y="5601960"/>
            <a:ext cx="1152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Message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600200"/>
            <a:ext cx="4343400" cy="4724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3886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TTP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819520"/>
            <a:ext cx="3886200" cy="32004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Envel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200400"/>
            <a:ext cx="358164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Hea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657600"/>
            <a:ext cx="30481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572000"/>
            <a:ext cx="358164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AP 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029200"/>
            <a:ext cx="30481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ssage 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6765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600200"/>
            <a:ext cx="3407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60280" y="1600200"/>
            <a:ext cx="31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Complete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2096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8954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2767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8098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464832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181480"/>
            <a:ext cx="1905120" cy="228600"/>
          </a:xfrm>
          <a:prstGeom prst="leftArrow">
            <a:avLst>
              <a:gd name="adj1" fmla="val 31944"/>
              <a:gd name="adj2" fmla="val 1166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90880" y="2133720"/>
            <a:ext cx="41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tandard HTTP and SOAP HTTP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1400" y="281952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Envelope&gt; encloses payl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03480" y="3200400"/>
            <a:ext cx="293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Header&gt; encloses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2000" y="3733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dividual hea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3920" y="4572000"/>
            <a:ext cx="33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lt;Body&gt; contains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6040" y="5105520"/>
            <a:ext cx="305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XML Encoded SOAP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me &amp;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8:58:05Z</dcterms:created>
  <dc:creator>Jay Schmelzer</dc:creator>
  <dc:description>Copyright 2000 Fawcette Technical Publications, all rights reserved.</dc:description>
  <cp:keywords>VCDC VBITS SQL2THEMAX BUILDER</cp:keywords>
  <dc:language>en-US</dc:language>
  <cp:lastModifiedBy>Jay Schmelzer</cp:lastModifiedBy>
  <cp:lastPrinted>1998-07-04T09:05:35Z</cp:lastPrinted>
  <dcterms:modified xsi:type="dcterms:W3CDTF">2001-10-11T18:07:18Z</dcterms:modified>
  <cp:revision>205</cp:revision>
  <dc:subject>Fawcette Technical Publications Conferences</dc:subject>
  <dc:title>Real World Web Services</dc:title>
</cp:coreProperties>
</file>